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3444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368-8C3C-4730-B9A5-3EE7CB45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7000" y="812520"/>
            <a:ext cx="10490400" cy="152388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7000" y="2641680"/>
            <a:ext cx="1049040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7000" y="5507640"/>
            <a:ext cx="1049040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5A3-A12C-45E0-BB0E-3DEC130C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7000" y="812520"/>
            <a:ext cx="10490400" cy="152388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7000" y="2641680"/>
            <a:ext cx="511920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02520" y="2641680"/>
            <a:ext cx="511920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7000" y="5507640"/>
            <a:ext cx="511920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2520" y="5507640"/>
            <a:ext cx="511920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825F-A684-41E7-9943-EB539FDE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7000" y="812520"/>
            <a:ext cx="10490400" cy="152388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7000" y="2641680"/>
            <a:ext cx="337752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73720" y="2641680"/>
            <a:ext cx="337752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440" y="2641680"/>
            <a:ext cx="337752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7000" y="5507640"/>
            <a:ext cx="337752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73720" y="5507640"/>
            <a:ext cx="337752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440" y="5507640"/>
            <a:ext cx="337752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BE4-739A-42A9-B361-D530FC0A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27000" y="812520"/>
            <a:ext cx="10490400" cy="152388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7000" y="2641680"/>
            <a:ext cx="10490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79C-CF6D-4E33-8EDA-A31BDCD6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7000" y="812520"/>
            <a:ext cx="10490400" cy="152388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7000" y="2641680"/>
            <a:ext cx="10490400" cy="548640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B11-0494-4D68-B51F-89C007BC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7000" y="812520"/>
            <a:ext cx="10490400" cy="152388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7000" y="2641680"/>
            <a:ext cx="5119200" cy="548640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02520" y="2641680"/>
            <a:ext cx="5119200" cy="548640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3DD-A93B-4EA0-8E54-80D6A1FA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7000" y="812520"/>
            <a:ext cx="10490400" cy="152388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B8E-B94A-476D-8D11-978517CE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27000" y="812520"/>
            <a:ext cx="104904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066-ED52-4FC5-BE9F-7BCBE99D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7000" y="812520"/>
            <a:ext cx="10490400" cy="152388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7000" y="2641680"/>
            <a:ext cx="511920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02520" y="2641680"/>
            <a:ext cx="5119200" cy="548640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7000" y="5507640"/>
            <a:ext cx="511920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5DAE-8800-4DB3-B6D7-B42E226A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27000" y="812520"/>
            <a:ext cx="10490400" cy="152388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7000" y="2641680"/>
            <a:ext cx="5119200" cy="548640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02520" y="2641680"/>
            <a:ext cx="511920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02520" y="5507640"/>
            <a:ext cx="511920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74CF-6258-45AF-84CD-E7AFABFA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7000" y="812520"/>
            <a:ext cx="10490400" cy="152388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7000" y="2641680"/>
            <a:ext cx="511920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02520" y="2641680"/>
            <a:ext cx="511920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7000" y="5507640"/>
            <a:ext cx="10490400" cy="261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0E9-A06B-4754-80AF-AA738E43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7000" y="812520"/>
            <a:ext cx="10490400" cy="152388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7000" y="2641680"/>
            <a:ext cx="10490400" cy="548640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marL="450720" indent="-45072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4880" indent="-37476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2" marL="1500120" indent="-299880"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3" marL="2100240" indent="-29988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4" marL="2700360" indent="-29988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5" marL="2700360" indent="-29988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6" marL="2700360" indent="-299880"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27000" y="8331120"/>
            <a:ext cx="2571840" cy="609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Autofit/>
          </a:bodyPr>
          <a:lstStyle>
            <a:lvl1pPr indent="0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16320" y="8331120"/>
            <a:ext cx="3911760" cy="609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Autofit/>
          </a:bodyPr>
          <a:lstStyle>
            <a:lvl1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845560" y="8331120"/>
            <a:ext cx="2571840" cy="609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Autofit/>
          </a:bodyPr>
          <a:lstStyle>
            <a:lvl1pPr indent="0" algn="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fld id="{94FEBD08-DB22-440D-B213-4E736A893640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7000" y="3047760"/>
            <a:ext cx="10490400" cy="152388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Accounts Receivable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51120" y="5181120"/>
            <a:ext cx="8642160" cy="233676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iscou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Uncollectible Accou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27000" y="641160"/>
            <a:ext cx="10490400" cy="780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Discounts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26640" y="1765080"/>
            <a:ext cx="10595160" cy="65768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 fontScale="98000"/>
          </a:bodyPr>
          <a:p>
            <a:pPr marL="441360" indent="-44136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e amount of accounts receivable appearing on the balance sheet is the sum of all customers’ net balances, reduced by the value of sales returns, discounts, and estimated uncollectible accounts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rade discount is given for large quantity sales, and are already deducted from the list price. The invoice shows the net amount. 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ash discount is given for early payment or price reduction later than the sales took pla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080" indent="0">
              <a:spcBef>
                <a:spcPts val="825"/>
              </a:spcBef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r  Discount Allowed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    Cr  Accounts Receiva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080" indent="0">
              <a:spcBef>
                <a:spcPts val="825"/>
              </a:spcBef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080" indent="0">
              <a:spcBef>
                <a:spcPts val="825"/>
              </a:spcBef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27000" y="480600"/>
            <a:ext cx="10490400" cy="119556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Uncollectible Accounts (1)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27000" y="1828440"/>
            <a:ext cx="10490400" cy="69944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/>
          </a:bodyPr>
          <a:p>
            <a:pPr marL="450720" indent="-45072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The Direct Write-off method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ecognizes losses on sale in the period when a firm decides that specific customers’ accounts are uncollectible.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r Bad Debt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 Accounts Receivable (A/R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974880" indent="-37476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hortcomings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500120" indent="-299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t does not recognize the loss in the period in which the sale occurs and the firm recognizes revenu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500120" indent="-299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arnings manipulation is possible by deciding the period when particular clients’ accounts are uncollectib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500120" indent="-299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A/R on the balance sheet does not reflect the amount a firm expects to collect in cash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Under GAAP this method is not allowed for the financial report when these losses are significant, but firms must use it for income tax reporting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7000" y="456840"/>
            <a:ext cx="10490400" cy="106668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Uncollectible Accounts (2)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27000" y="1599840"/>
            <a:ext cx="10490400" cy="716292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 fontScale="98000"/>
          </a:bodyPr>
          <a:p>
            <a:pPr marL="441360" indent="-4413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The Allowance method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s used when a firm can estimate with reasonable precision the amounts of uncollectible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r  Bad Debt   Cr  Allowance for Uncollectib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Irrecoverable claims must be written off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Dr  Allowance for Uncollectible      Cr  A/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080" indent="-36720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Features: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9880" indent="-2937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Uncollectibles are estimated in the period in which sales takes place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9880" indent="-2937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adjusting entry is expense in the same perio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9880" indent="-2937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overall balance of the Allowance for Uncollectible  is deducted from the A/R balance in the balance sheet 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7000" y="812880"/>
            <a:ext cx="10490400" cy="109224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ctr">
            <a:noAutofit/>
          </a:bodyPr>
          <a:p>
            <a:pPr indent="0" algn="ctr"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1" lang="en-US" sz="5700" spc="-1" strike="noStrike">
                <a:solidFill>
                  <a:srgbClr val="000000"/>
                </a:solidFill>
                <a:latin typeface="Times New Roman"/>
              </a:rPr>
              <a:t>Estimating Uncollectibles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7000" y="2057040"/>
            <a:ext cx="10274400" cy="6629400"/>
          </a:xfrm>
          <a:prstGeom prst="rect">
            <a:avLst/>
          </a:prstGeom>
          <a:noFill/>
          <a:ln w="0">
            <a:noFill/>
          </a:ln>
        </p:spPr>
        <p:txBody>
          <a:bodyPr lIns="119880" rIns="119880" tIns="60120" bIns="60120" anchor="t">
            <a:normAutofit fontScale="98000"/>
          </a:bodyPr>
          <a:p>
            <a:pPr marL="441360" indent="-44136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ercentage-of-Sales metho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e percentage is based on experien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Times New Roman"/>
              <a:buChar char="•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ging-of-accounts receivable metho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stomers are classified to the length of time for which the account has been uncollected as an estimated percentage of sales, e.g.: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080" indent="-36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Not yet du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 5%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080" indent="-36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st due 30days or less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080" indent="-36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st due 31 – 60 days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080" indent="-36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st due 61 – 180 days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955080" indent="-36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1200240"/>
                <a:tab algn="l" pos="2400480"/>
                <a:tab algn="l" pos="3600360"/>
                <a:tab algn="l" pos="4800600"/>
                <a:tab algn="l" pos="6000840"/>
                <a:tab algn="l" pos="7201080"/>
                <a:tab algn="l" pos="8400960"/>
                <a:tab algn="l" pos="9601200"/>
                <a:tab algn="l" pos="108014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st due 181 days or mor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80%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5T10:18:30Z</dcterms:created>
  <dc:creator>ME</dc:creator>
  <dc:description/>
  <dc:language>en-US</dc:language>
  <cp:lastModifiedBy>ME</cp:lastModifiedBy>
  <dcterms:modified xsi:type="dcterms:W3CDTF">2004-07-25T14:25:58Z</dcterms:modified>
  <cp:revision>9</cp:revision>
  <dc:subject/>
  <dc:title>Accounts Receivable</dc:title>
</cp:coreProperties>
</file>